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914040"/>
            <a:ext cx="6019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133360" y="3700080"/>
            <a:ext cx="6019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360" y="91404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17840" y="91404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33360" y="370008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17840" y="370008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914040"/>
            <a:ext cx="193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8440" y="914040"/>
            <a:ext cx="193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3520" y="914040"/>
            <a:ext cx="193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133360" y="3700080"/>
            <a:ext cx="193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168440" y="3700080"/>
            <a:ext cx="193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3520" y="3700080"/>
            <a:ext cx="193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9723-41FC-44D4-935E-6BAF79CE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3360" y="914040"/>
            <a:ext cx="6019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5C45-804B-4251-ACEE-53BE9CBF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33360" y="914040"/>
            <a:ext cx="6019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3AA1-6F95-475C-A283-AD8A75D6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33360" y="914040"/>
            <a:ext cx="2937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17840" y="914040"/>
            <a:ext cx="2937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DE9C-023A-45B2-915E-E366164F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9736-EED1-4B8F-A034-21C2FD6F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8584-7AA2-460B-A91C-A039BF98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33360" y="91404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17840" y="914040"/>
            <a:ext cx="2937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133360" y="370008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BC23-A28A-4D3F-A699-6C5BE405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133360" y="914040"/>
            <a:ext cx="6019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33360" y="914040"/>
            <a:ext cx="2937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17840" y="91404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17840" y="370008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FF6B-AD12-40F0-91D7-AB1E69B9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3360" y="91404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17840" y="91404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33360" y="3700080"/>
            <a:ext cx="6019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4E6-4667-465E-BCDB-138B6032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914040"/>
            <a:ext cx="6019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133360" y="3700080"/>
            <a:ext cx="6019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EFDF-4D84-44F1-83E8-5DE291D4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33360" y="91404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17840" y="91404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33360" y="370008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17840" y="370008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4DAD-7470-403D-86FB-F24E700A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3360" y="914040"/>
            <a:ext cx="193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8440" y="914040"/>
            <a:ext cx="193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03520" y="914040"/>
            <a:ext cx="193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133360" y="3700080"/>
            <a:ext cx="193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168440" y="3700080"/>
            <a:ext cx="193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03520" y="3700080"/>
            <a:ext cx="193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33C5-2FAB-4D29-BFEC-B0D52C48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133360" y="914040"/>
            <a:ext cx="6019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33360" y="914040"/>
            <a:ext cx="2937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17840" y="914040"/>
            <a:ext cx="2937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33360" y="91404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17840" y="914040"/>
            <a:ext cx="2937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133360" y="370008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360" y="914040"/>
            <a:ext cx="2937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17840" y="91404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17840" y="370008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33360" y="91404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17840" y="91404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133360" y="3700080"/>
            <a:ext cx="6019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02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133360" y="914040"/>
            <a:ext cx="6019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0" name="R02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R04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R01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5D0C-9FAD-42CF-BC03-3B89DBDBB5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Delphi 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程序设计及其应用开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428640" y="4876560"/>
            <a:ext cx="342900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编</a:t>
            </a:r>
            <a:r>
              <a:rPr b="0" lang="zh-CN" sz="2800" spc="-1" strike="noStrike">
                <a:solidFill>
                  <a:srgbClr val="000000"/>
                </a:solidFill>
                <a:latin typeface="Arial Narrow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李存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R03" descr=""/>
          <p:cNvPicPr/>
          <p:nvPr/>
        </p:nvPicPr>
        <p:blipFill>
          <a:blip r:embed="rId1"/>
          <a:stretch/>
        </p:blipFill>
        <p:spPr>
          <a:xfrm>
            <a:off x="2971800" y="5105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6320" y="13644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高等学校计算机基础课程系列教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36720" y="6172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国水利水电出版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章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帮助文件制作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920" y="1980720"/>
            <a:ext cx="6781680" cy="33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1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微软超文本帮助文件制作系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2  Delph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带的帮助文件制作系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7772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章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安装制作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2209320"/>
            <a:ext cx="639144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9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安装制作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9.2  InstallShiel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使用实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1066320"/>
            <a:ext cx="81536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THANK YOU VERY MUCH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5434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欢迎您使用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endshow"/>
          </p:cNvPr>
          <p:cNvSpPr/>
          <p:nvPr/>
        </p:nvSpPr>
        <p:spPr>
          <a:xfrm>
            <a:off x="5486400" y="6373440"/>
            <a:ext cx="1222200" cy="398880"/>
          </a:xfrm>
          <a:prstGeom prst="rect">
            <a:avLst/>
          </a:prstGeom>
          <a:noFill/>
          <a:ln w="22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0000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6280" y="3486240"/>
            <a:ext cx="53240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Arial"/>
              </a:rPr>
              <a:t>Delphi 6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程序设计及其应用开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演示文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Arial"/>
              </a:rPr>
              <a:t>Delphi 6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程序设计及其应用开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81080" y="159984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章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elphi 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快速入门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章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Object Pascal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设计语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章  图形界面设计与项目管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章  图形与图像操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章  多媒体与动画操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章  数据库编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章  创建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服务器程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章  帮助文件制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章  安装制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Arial"/>
              </a:rPr>
              <a:t>1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章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Arial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Arial"/>
              </a:rPr>
              <a:t>Delphi 6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快速入门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80720" y="2209320"/>
            <a:ext cx="5961240" cy="29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1  Delphi 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2  Delphi 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安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3  Delphi 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界面描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77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2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章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Object Pascal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程序设计语言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81080" y="1904760"/>
            <a:ext cx="5486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基本字符和符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常量与变量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数据类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运算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5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6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过程与函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章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图形界面设计与项目管理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5333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菜单的设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工具栏的设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状态栏的设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及面板的设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5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本对象的设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6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关窗体的操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7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关代码编辑器的使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8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项目管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4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章  图形与图像操作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52680" y="2209680"/>
            <a:ext cx="2759040" cy="28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1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本概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2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实例介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Arial"/>
              </a:rPr>
              <a:t>5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章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Arial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多媒体与动画操作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64436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1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画控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im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使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2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媒体控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ediaPlaye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制作图片浏览器实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6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章  数据库编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2437920"/>
            <a:ext cx="4343400" cy="297180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1  Delph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库系统概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库引擎管理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D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库桌面系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24280" y="2437920"/>
            <a:ext cx="4114800" cy="297180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5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集控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6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控制控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7  Decision Cub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控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8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报表控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Arial"/>
              </a:rPr>
              <a:t>7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章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Arial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创建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Arial"/>
              </a:rPr>
              <a:t>Web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服务器程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4678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1  Interne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2  We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服务器程序简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3  ISAP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编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4  CG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编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5  ISAPI DL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G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间的相互转化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07:09:47Z</dcterms:created>
  <dc:creator>新人电脑</dc:creator>
  <dc:description/>
  <dc:language>en-US</dc:language>
  <cp:lastModifiedBy>新人电脑</cp:lastModifiedBy>
  <dcterms:modified xsi:type="dcterms:W3CDTF">2002-03-18T11:31:12Z</dcterms:modified>
  <cp:revision>11</cp:revision>
  <dc:subject/>
  <dc:title>Delphi 6程序设计及其应用开发</dc:title>
</cp:coreProperties>
</file>